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383-CD1E-4CDB-9E9E-8C39749F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106-EE5C-41D6-96D2-E8AD0491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02376-F770-4809-BA81-44CED6F2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C9D69-D7FD-4D0A-B334-76F502CD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0F7D9-48F2-46ED-B0DE-2BE96E49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0BFCC-C241-4CEF-A8C3-A9FF3C5F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3EC80-EDEA-4EF7-9B69-D3420EF2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27881-EFE8-439F-A66A-15D8B756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AAFA3-E029-4C85-B447-41C02F07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037C1-F5E1-4BF5-82F9-58BDDA36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7A169-B8C4-4410-BEB9-74D0923A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2C138-85AB-401F-AC19-16161E1C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99F-3E24-4153-AC0D-DB11D09C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116E9-F7DA-4162-BE2C-3B7D11DD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E5327-A8D8-458A-9146-E68E07A9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4EAA4-8E7A-471D-9E51-AF610182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F06CB-FC65-4046-A2F0-64FFA372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93E44-0061-463A-8AA2-F017B4F0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75C79-0288-49F7-A57D-F29C5659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3306F-F822-45D5-A134-C60F6359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8B90F-E2C8-497F-8002-AFA5B3AA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5A07F-279E-4D19-B1FC-DFCE3FE8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98952-4987-444C-ADD2-8B3EDA1C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263-5C26-4DE2-A013-A04C2E32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751E1-7294-4D77-8F49-C8A84521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1115D-E4D4-4996-B267-6BB2D8C4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DDD44-ED4F-49F3-923E-61F79319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9555C-634F-408B-BD90-A0158910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0E6F3-E5B5-4BDC-865D-C9A066B0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7FB44-36D6-473F-A1D7-746CE5E0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97C1A-DBCC-4CC1-A458-A9458939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0CCC3-D502-4567-8783-074EA39E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F36C7-764C-45D5-81E8-E93B2EE0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B1DEE-9FB9-4272-8DA1-C88604A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48E3-5AC9-4066-809C-70F937ED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3B6A3-0B7E-4923-A8FD-28420E9D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7716A-2EFE-472C-87CC-1513B7E0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F4B3D-235A-48AD-ADEC-05FD90AF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0AFCC-CB52-441C-BAB9-B6AD4E4F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E386B-6B75-4DD5-B8FB-B8D9E500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411AC-FCDD-4965-B6F5-FFD10662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6A4E7-0540-46A9-AB57-F2DC9173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11279-85F5-4057-B5B9-D88DC886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EE5E9-6804-4BBB-AF57-8EBA34C7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B984C-87A8-4648-9AED-ABBFC3E5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DC7A-C31A-4F36-9AD4-CC301177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C136E-94D4-475C-935C-F4AA530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B4076-0E85-4C70-80A4-23C3FD4F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D4EC5-9FF1-4787-BC39-E48EBA84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12BE0-3436-4128-B9C4-F1BD1DAC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B8C56-34D0-4F8E-8B07-F049A0D9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09F2B-6CD9-404F-9146-42D2F649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69259-AD81-46D1-9260-2EEA1BD1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7D4DD-3095-45AE-B2AC-6F3880F5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AE1D4-7F35-44DA-8C7E-151AD7D7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D2EB1-3E3C-4911-9AC8-6EF5DA7C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583A-9423-4B63-9804-99A1A788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18A65-83E0-4B98-9979-2DC0BFBA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485BE-58BD-43C3-AE1C-F2B46C4D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6F8B9-4363-46D2-8848-DEEB7DE5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3A21F-C063-425D-AEB3-9857891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851A3-1ACC-428B-B2F4-28F85D3D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C1519-2B9A-416C-A219-27B9DDFF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E7E55-8366-4FDB-8A98-5E9E9B76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D45E1-A9EF-488A-BECB-00B0F00F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E4CFB1-997C-413A-94E6-FAC31D57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924BF-4ECD-4402-B2EE-0BEB00CD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3679-22CD-4D32-BCFF-8BA50F30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7DD53-EEA4-4AEB-89BF-05B4F4BE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05685-6E9F-4F1C-88FC-AE07E679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6CF79-6193-403C-B5D1-3A7A8833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721F7-CB52-47C4-AC50-C7EF73FA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65B42-1945-411E-BD6D-96C621FA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C69BC-135D-47C4-A748-1D079C6B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B1D8F-1DEC-4E07-A4DD-6B10202E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A9DF2-4935-42C7-B0A5-5C2AC90B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BC52D-9E11-4B1C-967B-A9892B06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F77FB5-4FF4-49CE-9C0E-8EA95150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9A22-FCD9-4693-B4F7-AE8506F6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B7547-24E2-4D6C-B7E5-ED1CCCCB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FE201-6BB3-4E37-9290-12CDB6CD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34F7F-CDBD-4944-914D-EFD129E0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1759F-A023-4FEE-8AB5-574730AE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EAB4E-E477-40D9-AF8A-E8D62601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98953-C184-49EC-A5BC-413DAABF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B4164-BFCC-4F52-8964-59BC9003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07732B-48F4-4A26-900D-B7C15C71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465B6-1FAD-47CF-81CE-4DF83EFC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9218E-E1EE-431C-81F2-A4408ED7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2D4D-BA8E-4CFC-96A4-067B176D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67BAF-1739-4F66-830F-653F919F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7B4251-D833-4547-8F2A-718F30F9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24D69-BFA5-412F-9796-951D1977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304E33-684F-48DA-89E3-507A5536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67636-2359-4E5C-95DD-2E81A688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5097E7-6DCF-45E0-8506-81B67FEC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CC6DA-FD71-45B7-B7DA-9266DA2A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01AEA5-6282-4686-8834-ACD6999C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6D6499-3374-45D0-9ACA-CF8FF077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B07A0-67CE-4DA8-B3BA-65055648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406A-4DAB-4AA4-A9E5-96991049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D60A4-B39D-4AA6-9D66-935CC69C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C58B1-2952-4BCA-BB9C-0E56E550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E0F7B-9E91-41D8-9930-691F0C3C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1BA289-9739-4825-B194-37F53B3B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01FCDE-006C-4D29-94BB-4CDFE5F5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2DEE4-AB24-4C7D-8F4D-F5AC6A28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440806-759B-4C4A-A210-32367673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5A183-0813-4515-B610-C7DFBD2C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F51DD-AF62-48C1-ADFA-27E1FF03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13BEC9-D0AE-4F7B-A2C7-6D2A1303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465-A0A6-4E60-81A6-2E5E85CF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3F4D-F1CB-4B22-9419-C92BA8A6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BD550F-A05D-44A2-80EA-69B17D29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112E89-788C-4AA7-B7DF-8C0FB77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9290A-9D5E-4779-9166-DBEE368B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CF88A-3EC9-4F3F-856D-B817BFB4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1958B-EDFF-463D-A4A8-8D640D7F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175D3E-6AE4-4339-8DB2-F285BB23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A32DC9-0408-4CE6-8FF3-1D17DC8B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124D5F-E911-4DDA-93EB-927C9A36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F9BDE6-D855-484D-86B8-EE0471C4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0EADA-E2B1-4161-BF8E-5AFC621E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6C2F-00C5-40BB-AD08-C9DC6E39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6450E5-1A9C-4A30-A7F3-1C76FA94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6559B0-CC4C-482F-85BD-4F284673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FD096-7DF4-44FD-87DD-E3F7ADF6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6A537E-9CD6-45D2-B1B7-C55C763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0B5D3-372A-415D-87E7-FEE79BF7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DBA59C-DFEA-4447-A270-F0926C15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04163C-A28B-4656-A6E6-B0ACF858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592CFC-8DAB-403E-8212-C9EB8AFD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E3364C-5657-4ED3-9E80-2E8DF95C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9DA4F-5685-4836-89F1-9CFF6A1E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DF5E-9FFE-423A-BB14-7D3874C2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4EDA57-A858-4EC8-BF42-EC4BDAD3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E4B548-8C23-4087-B5B2-6F951878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498DF-5733-4347-9211-D568460E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178076-D7CE-49A8-BD7D-F10C532F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87332D-BAF2-4937-A957-7B43E28B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3AF1DA-91DF-473F-9B82-9B971911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362A5-4D83-4B8B-ACE9-C80A9095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3D30D6-D89F-4EC1-94F2-4F8BF7CE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EBE598-2729-4C89-89CF-64FDA342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8B7193-F9ED-4994-9A22-7B53D2AC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0149-C3CE-4C9E-9618-09728E18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007EBA-C8B9-4AD9-8D3C-679EE234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1D330C-75BB-4F25-A4F1-D273CD85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A081BC-5012-416C-BE94-A46D7283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3B432-90BA-4DC0-88BF-206BAF66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716CDC-DFEA-44AA-9BA0-0A965BB6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557658-8ACF-45F1-A8D0-D29A5A17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286FD8-FCFF-4FEE-9266-6843BB4A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6FD71-3695-4EC2-B079-B0CF85F0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7091D1-ACA1-4390-AEA9-016B0A31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734A69-4555-4226-A7C2-8C9B5147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4F6A-881A-4D30-AD50-B09E606C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DD0891-2E73-479C-B90E-705609FB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07078E-C178-4999-B346-26C01E04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7EC56B-7689-4F5A-AEED-0804D2EC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7F710A-4B79-42A2-A3B9-E3E0B477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C18D50-D2EE-4916-B4D2-3D459ED9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88EE54-F834-400D-A2FF-4C8F6EF4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4C06FF-3426-435B-A96F-BA9A56EC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1F393-871E-46F7-BD61-115AD825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92B90A-9D8F-44D8-9E6B-E4E0F9F2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96C2EC-3169-4BAF-9DA6-3628C595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A049-8593-4D9D-AD66-F6FF172A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642041-429F-44C5-B395-C32E7CE8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D262B4-98B4-4B52-ABBA-4B53CD9C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DD1239-87FE-476A-894D-F685204E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0EED9D-80FA-4D6B-B4A8-36AAF098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2B521E-1C24-4A7C-AE8C-9FF9C581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F08B74-5863-4F17-966E-238BEAC6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C90AD4-10BE-4EF2-B12E-30694AB2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27C206-619C-4397-9DED-8488D562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4B4B04-55EF-4C18-917D-6AB07ED4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585E99-1CF4-48C1-80EA-B206519E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5B51-5965-406D-A5D6-7AA75DAA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F4329A-05B1-4E67-B962-B97DCFD2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80EB2E-BBC3-482B-9B3B-AA038427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F96F9F-F2DE-4AB1-A667-44774DE0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A57196-04F3-4AF5-8B08-C2DF05B5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B0F963-80E8-435D-8B98-BA757A7D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D774-A2F4-4DD3-8B4D-67C929D9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D6CB-280E-4B3A-BB6C-0C5B0AE0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F3DFF-BB4D-4C47-B64F-91867351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925-212E-4EDA-A5E2-E0E4D3FE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44DBC-4BFC-44AB-A798-229F947C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E8294-B27F-42E3-AFA2-E644391B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FAAEC-8623-4781-97AD-EBA10DA7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8F00-27F5-4554-AD22-BED71B7F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91566-A852-4067-A50E-4091EC56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76AB-D491-44D2-89B2-FE503D3D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58729-932B-42DE-BD65-6BCEFBAC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154B-8143-495C-AD07-58F69BE0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9E9C2-BA76-4791-BF2C-18A0942E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2F3A5-39B3-43AB-9129-5B32CD08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6FC-1CF9-4E85-95A9-C5F5F388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5D44-B112-4F41-94D4-A22041B5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78BE5-4585-4306-B9C2-02894D10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E5CEC-B437-4E1E-B3EB-6567B29A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16543-A41D-4D41-867D-A6C41D7A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231FC-0552-4ED4-9F44-DB403923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39D67-2058-49F3-A14B-CA48F992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66AE4-2E5C-41BB-A6AB-864E9A2C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E6E34-5E1B-462C-8608-DED6BEB2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8E1A1-DB37-4A36-AE6D-E39178E2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D52F8-084A-4F98-82FF-AAAA06BD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223-2907-42A0-A4CE-F4576C71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7F111-8D63-4F23-9965-699CB427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896A6-9245-4BB8-8737-C0A5309D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A3CE1-E127-4EC5-93C7-A1F5F806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36A6-DB6A-4528-90AC-8557CDBF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A5AFA-1A24-4B83-99BB-9881220D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AD869-1391-4116-81E8-94AA98A1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71234-B804-4178-8390-E1E512D1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4A0DF-FABD-42D3-94C5-67AEF1A9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7777-D164-4B02-8A2D-13DA881E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701FD-813D-4129-AA01-D4010881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701-F548-44F1-818E-B3AEB389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D697B-E3A4-4F23-8283-A74E2D58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90D17-1D32-4F9D-A892-BD2E053F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89AB6-7544-4B8F-87B1-33BCD849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57C63-40B4-4A38-A8FD-782EF046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2C765-9DAC-4E2E-9F4F-8DFE2964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EF961-35E0-460F-8C30-A33A4978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438EF-D79B-4220-9EBC-455E5AAC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28E61-BCFC-4A3E-A895-3E87CE47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FDED2-AB36-4FDD-8B5F-0FFD3D9A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E3FF-024A-4871-ACAE-745DC1AC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6FC-017D-4001-B2EE-5C96E1AC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41DE1-AC31-4025-AEDA-2F99D258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36858-5234-4F31-8873-3F2D25CE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00FBB-E612-43EE-8114-68826A69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6FF82-BC1B-406D-B5FF-79CB3D95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5ED72-C878-4C6D-B9CC-FB46C6B9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EC15F-3CF5-4592-9596-8A685C38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810AB-12D2-48D7-A061-2D90FCA1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05AE8-CDB2-4C61-9080-8BA9D99E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06C8D-1E8B-41A9-9672-419A72B2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B4DDF-B4D7-4D74-AC8A-2BDE030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498-386B-43F6-A711-48856097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35AD5-1E50-4922-B1C1-99B1E2FB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EC778-0594-4922-A53F-341C3AB4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90810-D4D8-422F-8DE5-90F2CC5E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122F5-4A37-4752-A219-3544DA9A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80DE0-509B-44FB-89EA-E9B2F321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C5DCB-080A-453A-A9A4-A5411150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C858E-99B5-45BF-9C39-7BF31976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A4771-7E5D-49A9-B606-005D3E50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09447-C3BD-4AA1-8473-91E8B2E4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B53A8-B0D8-4EFF-A158-2E63D348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332-4DA8-473C-BB99-1D63910B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96ACE-A04D-4993-8771-14DE111F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C6CE4-4B1C-4596-BDCB-82B26FD4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86D5C-AF02-4708-A8A9-3C338478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84B8C-6E61-4E8F-9C37-B9514A11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A5889-EE5C-43EE-ADE8-C745C9E0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09A10-8AA5-4384-954A-7073AE2C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2148B-DA0E-40E5-81D5-605E3FFA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4464F-D21F-4681-8F26-4C919DF1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231A0-344E-4E2D-B021-2DBB0006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301BD-E922-4E0B-885A-94191D14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2D3F-B29F-42DC-BF36-E62525CBB3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F080-01A3-446F-AA35-8A187AFE38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71B1-CEA7-40A3-8319-37CE49997B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D67C-E330-4FAD-93FE-9CAEB79770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1023-8A00-417B-998E-1381F85B0E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EAAD-8DE0-4B52-A7AD-9AEDA0AA90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533E-0958-4A73-B07B-1E8ADC6DDD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F9C9-0D54-4C0B-A52A-1AE875413C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3617-DBF1-47BC-A824-E3788EF01C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BCF8-8044-47E1-9967-4F1935D961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3EEE-07CD-4240-BF51-F2ED463CDC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20FA-46AE-433D-BC76-72BA3E2BD7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0E51-449A-4B45-997C-B5C7A23A4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B607-CF24-4BA2-A028-39BE184020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FD85-41B2-4178-AB83-5C9080F459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CB32-9969-443E-AC04-F281FD37AA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4F6A-B81C-4303-AA9B-620809D3A2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05D4-016C-46F1-BFAA-C163EBFFD6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E519-FABF-4244-A29A-94F38E01C5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DB65-DBE4-43E1-975E-D13D6B35B1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C8FB-362D-4F2B-A43B-422976EF97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8176-C2E9-4224-BE75-E6ADA17C80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BF0F-3768-4C30-8A32-211F710C19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D9ED-26ED-498B-9410-A41C87F085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F757-ED3A-4131-B7D9-4D4B4E114F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4972-C17B-46A2-A926-7EF3D10C7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E6B0-F4C4-4F78-B025-959D698179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45F8-F639-4F88-B27A-4043A5E267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AD52-68A9-4719-A5F2-0FBE13E165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27B4-C0A1-41EC-ACB6-7F77F555C8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CB14-781E-4CD2-83DF-BD9A9381F2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46CB-F723-42EB-82D7-7AAA958AA1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0F7F-7107-4394-8A22-2E7644D0A7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905E-349D-4305-984D-7126B431C7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57BD-0A69-470B-8A2D-63BDC4028A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ED99-040A-4208-92D7-2977D25776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260A-56CA-47B7-A2E5-F36FE022FD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7E5F-EA3C-4349-B0DF-3247175447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C6FE-6141-4CAE-89C9-F97D05FDC2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B9E6-2BBE-4679-B27D-4580A071C4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5899-DB99-4A23-9471-E450219B7B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1852560" y="3171960"/>
            <a:ext cx="543888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214200" y="890640"/>
            <a:ext cx="8715600" cy="5076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547640" y="2130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356400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558000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758196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154764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356400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556560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758196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1908000" y="2938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3924360" y="2938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5940360" y="29829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795672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4"/>
          <a:stretch/>
        </p:blipFill>
        <p:spPr>
          <a:xfrm>
            <a:off x="2050920" y="33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5"/>
          <a:stretch/>
        </p:blipFill>
        <p:spPr>
          <a:xfrm>
            <a:off x="4052880" y="33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6"/>
          <a:stretch/>
        </p:blipFill>
        <p:spPr>
          <a:xfrm>
            <a:off x="5940360" y="33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7"/>
          <a:stretch/>
        </p:blipFill>
        <p:spPr>
          <a:xfrm>
            <a:off x="7956720" y="33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6165" descr=""/>
          <p:cNvPicPr/>
          <p:nvPr/>
        </p:nvPicPr>
        <p:blipFill>
          <a:blip r:embed="rId18"/>
          <a:stretch/>
        </p:blipFill>
        <p:spPr>
          <a:xfrm>
            <a:off x="1619280" y="4321080"/>
            <a:ext cx="1247760" cy="46692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6166" descr=""/>
          <p:cNvPicPr/>
          <p:nvPr/>
        </p:nvPicPr>
        <p:blipFill>
          <a:blip r:embed="rId19"/>
          <a:stretch/>
        </p:blipFill>
        <p:spPr>
          <a:xfrm>
            <a:off x="1619280" y="4883040"/>
            <a:ext cx="1247760" cy="46692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6167" descr=""/>
          <p:cNvPicPr/>
          <p:nvPr/>
        </p:nvPicPr>
        <p:blipFill>
          <a:blip r:embed="rId20"/>
          <a:stretch/>
        </p:blipFill>
        <p:spPr>
          <a:xfrm>
            <a:off x="1619280" y="5459400"/>
            <a:ext cx="1247760" cy="46656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6168" descr=""/>
          <p:cNvPicPr/>
          <p:nvPr/>
        </p:nvPicPr>
        <p:blipFill>
          <a:blip r:embed="rId21"/>
          <a:stretch/>
        </p:blipFill>
        <p:spPr>
          <a:xfrm>
            <a:off x="4859280" y="4307040"/>
            <a:ext cx="1247760" cy="46656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6169" descr=""/>
          <p:cNvPicPr/>
          <p:nvPr/>
        </p:nvPicPr>
        <p:blipFill>
          <a:blip r:embed="rId22"/>
          <a:stretch/>
        </p:blipFill>
        <p:spPr>
          <a:xfrm>
            <a:off x="4873680" y="4883040"/>
            <a:ext cx="1247760" cy="466920"/>
          </a:xfrm>
          <a:prstGeom prst="rect">
            <a:avLst/>
          </a:prstGeom>
          <a:ln w="0">
            <a:noFill/>
          </a:ln>
        </p:spPr>
      </p:pic>
      <p:pic>
        <p:nvPicPr>
          <p:cNvPr id="985" name="图片 6170" descr=""/>
          <p:cNvPicPr/>
          <p:nvPr/>
        </p:nvPicPr>
        <p:blipFill>
          <a:blip r:embed="rId23"/>
          <a:stretch/>
        </p:blipFill>
        <p:spPr>
          <a:xfrm>
            <a:off x="4873680" y="5445000"/>
            <a:ext cx="1247760" cy="4669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24"/>
          <a:stretch/>
        </p:blipFill>
        <p:spPr>
          <a:xfrm>
            <a:off x="7020000" y="4956120"/>
            <a:ext cx="194472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图片 7169" descr=""/>
          <p:cNvPicPr/>
          <p:nvPr/>
        </p:nvPicPr>
        <p:blipFill>
          <a:blip r:embed="rId1"/>
          <a:stretch/>
        </p:blipFill>
        <p:spPr>
          <a:xfrm>
            <a:off x="752400" y="1405080"/>
            <a:ext cx="7639200" cy="40478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2"/>
          <a:stretch/>
        </p:blipFill>
        <p:spPr>
          <a:xfrm>
            <a:off x="1677960" y="2060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3"/>
          <a:stretch/>
        </p:blipFill>
        <p:spPr>
          <a:xfrm>
            <a:off x="4486320" y="2060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4"/>
          <a:stretch/>
        </p:blipFill>
        <p:spPr>
          <a:xfrm>
            <a:off x="6877080" y="2060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5"/>
          <a:stretch/>
        </p:blipFill>
        <p:spPr>
          <a:xfrm>
            <a:off x="1677960" y="2637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6"/>
          <a:stretch/>
        </p:blipFill>
        <p:spPr>
          <a:xfrm>
            <a:off x="4486320" y="26226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7"/>
          <a:stretch/>
        </p:blipFill>
        <p:spPr>
          <a:xfrm>
            <a:off x="6905520" y="2637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4" name="图片 7177" descr=""/>
          <p:cNvPicPr/>
          <p:nvPr/>
        </p:nvPicPr>
        <p:blipFill>
          <a:blip r:embed="rId8"/>
          <a:stretch/>
        </p:blipFill>
        <p:spPr>
          <a:xfrm>
            <a:off x="1258920" y="4968720"/>
            <a:ext cx="187812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图片 8193" descr=""/>
          <p:cNvPicPr/>
          <p:nvPr/>
        </p:nvPicPr>
        <p:blipFill>
          <a:blip r:embed="rId1"/>
          <a:stretch/>
        </p:blipFill>
        <p:spPr>
          <a:xfrm>
            <a:off x="1147680" y="1862280"/>
            <a:ext cx="6848640" cy="3133440"/>
          </a:xfrm>
          <a:prstGeom prst="rect">
            <a:avLst/>
          </a:prstGeom>
          <a:ln w="0">
            <a:noFill/>
          </a:ln>
        </p:spPr>
      </p:pic>
      <p:pic>
        <p:nvPicPr>
          <p:cNvPr id="996" name="图片 8194" descr=""/>
          <p:cNvPicPr/>
          <p:nvPr/>
        </p:nvPicPr>
        <p:blipFill>
          <a:blip r:embed="rId2"/>
          <a:stretch/>
        </p:blipFill>
        <p:spPr>
          <a:xfrm>
            <a:off x="1720800" y="437832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97" name="图片 8195" descr=""/>
          <p:cNvPicPr/>
          <p:nvPr/>
        </p:nvPicPr>
        <p:blipFill>
          <a:blip r:embed="rId3"/>
          <a:stretch/>
        </p:blipFill>
        <p:spPr>
          <a:xfrm>
            <a:off x="4600440" y="4392720"/>
            <a:ext cx="18781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26:4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